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10288588" cy="1829593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72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34"/>
          </p:nvPr>
        </p:nvSpPr>
        <p:spPr>
          <a:xfrm>
            <a:off x="3892680" y="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2387160" y="744120"/>
            <a:ext cx="209556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686880" y="4717800"/>
            <a:ext cx="54961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5"/>
          </p:nvPr>
        </p:nvSpPr>
        <p:spPr>
          <a:xfrm>
            <a:off x="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36"/>
          </p:nvPr>
        </p:nvSpPr>
        <p:spPr>
          <a:xfrm>
            <a:off x="389268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B398-CE6F-431D-8B8B-40855142E7E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387520" y="744480"/>
            <a:ext cx="2095560" cy="3724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6880" y="4717800"/>
            <a:ext cx="5496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スライド番号プレースホルダ 3"/>
          <p:cNvSpPr/>
          <p:nvPr/>
        </p:nvSpPr>
        <p:spPr>
          <a:xfrm>
            <a:off x="389268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76A2-89CE-43D1-9AD8-B445CAA7E9C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9BCB0-21DC-4673-B175-F8D8D7D6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C32B5-FDA2-48D3-AD5A-EBEFDFEE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49C2F-28D6-4FBA-9708-C1A41F21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68A65-DC7E-490E-B2CB-B1A4F6BE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CA8E4-0F1F-4A81-99F7-750990FE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E0531-CF42-42F2-82CE-5026D83E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C91C9-B3AC-4813-831C-910A3EC4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6CEB4-D035-4B2D-AB73-7BB0F88C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226D5-2B4D-4EDF-80E9-61575B12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69651-5DA3-4BF2-9598-845FCDDF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087AC-00CB-4A40-B51E-1F4990C2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B0140-AE82-4B77-93F0-7D07BBC9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3993A-4EBB-4BAE-9568-A15B6F74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C6AAE-D3DD-45AC-8897-17284243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1CE05-B8F2-45A3-8E16-DCAB1124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42C7F-0581-4290-9E4B-3BFCFBF9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5FA79-B15D-453D-B103-82D90DCD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C0651-C5FD-45C7-AF91-8B3192F6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4E6A0-16B5-42E6-A65A-B7DF0D85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396A2-D030-47D1-88B7-248C0174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08F47-63CB-4585-BB53-5DB201C6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0E8D2-B702-439D-BCE5-1FD14448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F1E2D-E5D0-4A3C-BA9A-AD31A83D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3BA31-4584-4347-9C9A-C769896C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1F2AC-1ABC-42E5-AFFD-9B02A494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FD4E1-DB50-4F58-A7A0-EFCFDC74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6B7A3-5E11-4867-B76A-0FEC5E8F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8FEE8-7A3A-4CED-A99A-0B1B68FF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3B26C-06DB-4F74-8173-97EBF3D5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52397-4C68-48BD-B856-EA466C2B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DFA-BE27-4D2C-8E8B-F9F6EAF9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A5DB4-6AD0-4F3A-80F1-78FDFB96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867EB-55B2-4F4C-9256-60E12B2B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2E76D-1CF3-45F4-9BC9-039D5F1B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D0579-86CD-447C-BB82-AE2E3E86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D991F-F772-4E0C-B6FE-BE213FC5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60D65-517B-4488-BF78-662D3599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0FCD5-16CE-4DAB-B0C8-B9CF1555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FAE4C-C40C-4D20-97F3-F9D1B49F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775B5-38FE-4317-8B6A-76337B9B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83E34-995B-4366-8535-ECA0CD33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C26-A828-4D29-A643-F8126ACE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68BB7-55B5-4162-B814-F792CD6F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E1719-2F7D-428A-8661-214531D7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09BF9-FF4B-4215-81DC-B51F51A5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8ED5C-0AD3-493B-ADB2-1FBBC731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77BEB-2666-4606-BC42-E8E9BC25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1D2-37C4-48CE-B169-D7902297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15C-9DEF-49DD-9D0E-996F5BAF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A17-59AF-4897-82D9-7F4C610A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65E-144E-427A-A552-7A77DB77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955-9177-4D47-A62C-500F6FB7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873-6F59-45C1-B1A6-42044765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E26-9BE9-427B-A77D-C7D54769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2D3-E0B5-4A6D-B750-CA6F895B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94A-F4D6-455C-9DAD-62C94BFA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537-5BFC-4D29-8656-0FA1DAA2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D1D0-0DE2-49CC-AAEF-7020FEF4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92CB-5D63-4CE1-80A7-8B8B53C3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7DF2-C690-4CF0-BCDC-A52FA4CC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8AA6-323B-426D-A728-87088FA5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511B-4B83-41DD-8A47-790D3FAE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37AA-B303-4F7C-A175-4F0704BF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48CC-2507-4708-A8E9-3B30BCCF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F669-4A21-4767-A8C0-5023D79C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0078-1C7A-4F82-9FC6-3FF7FA7E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7F4A-4D5E-4808-A18F-6A384465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85AD-886D-47B1-BB12-F7FFC25B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6F12-1C0D-49B5-8DD0-74657393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2E5D-567C-4E6D-B9B2-06561042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2CE2-B285-4085-8E62-F8FFA7C6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477F-AB09-446A-88EA-292FCD9C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20E9E-5D90-47BE-8733-6AEA0E9E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B9FD4-BB3E-4AEA-8B9B-2B6C1B2C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0EF6E-A707-48CE-8D9D-4F0C60EE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D25A-A4B2-4CD8-8A3E-384E6C11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48635-DA77-4D21-ACB5-47595B3A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3B26B-C746-45C4-B874-DA60EB5F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BDBFB-790E-44DF-8FF0-E5C0E704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883D-F47C-4E87-B844-666D8D07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5A902-B2BB-44C3-82A1-66C5FD67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D775F-E663-487C-BDA3-111F371E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A8976-A137-4E09-B33B-7BFC389B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41DD0-45DA-4738-8F0D-EF2D595F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B2817-685E-4004-80B8-A17E81E8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0B3D3-A366-4B8C-B597-10DBFD48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625A4-2920-451D-95AB-18C1BF69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408DC-1639-4CFD-B331-073DE4A0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A5DB8-092F-4BD5-B397-E07A4B18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FA5D7-CDAC-4D0C-A89A-719A1762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F4C62-DC26-4477-83EC-9500BCAD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EB1A4-A406-449A-8284-7E3D600C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D02CD-C1A9-44FF-90FC-0E03E2CD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27C2E-7B6C-4416-B19A-45FA01B0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839DD-4C56-48BA-B3E6-D2038998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971D4-CABA-45ED-B70C-2D9B87D8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7A68E-ABB5-4CCD-A2DE-0CAC9872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2D7A5-34AC-4997-B106-AC60BC79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6779A-669C-4F51-B59A-801E09C5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294EE-9D53-4227-89D9-CDF3831B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9F99E-446F-4409-8C03-F941DF9A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68EE0-63DF-45B0-A686-ACED9C03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A71D7-76B9-4687-B308-7683F9E6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0CC58-5C53-49E2-964E-70304315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3CB4F-D219-49F4-B059-7B678416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09377-830C-4B46-9C7E-223E50C0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A9AE7-B0E2-41DC-9AE4-AA4ADDFF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E3499-6A63-41CF-B582-64BFD4C0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C3E40-6756-41B4-8535-36BB965F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3511F-601C-4321-A3B4-72F309A2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C5B62-9F7B-45AF-A262-0E874088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377EC-148D-4EB1-B36B-B8578951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B6136-5B8C-465A-BA77-CC35A48B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7D2FC-CF37-4927-B611-9165CAB8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E0D3A-CADE-4D7B-BCD9-7CAC9101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B2E93-EFF2-4BEF-8111-52FA575E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666C6-FB9F-4638-8FA6-4057481C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2F752-FB12-4632-B7C9-AB531C5F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86057-2CCC-4F81-8877-61EEE23D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7A05D-3FD4-4C25-A829-C509810F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BD5DD-210C-4A57-B8E8-4F7BC0B9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A3A88-31BA-4425-9A8E-7A65C818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867ED-0824-4D6D-8024-F22193CB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68FD5-D450-411A-950B-796DC0ED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FBA1B-22D6-4F17-83B5-3A272395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0EB01-0F01-4706-85D7-4ADC3FD9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28A92-2A5B-4D45-B3BE-F4A96031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7CDC1-B813-4825-8709-4AE3D6EB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EF7C5-D88A-4B57-B1F9-620CFF94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225C2-8B65-467D-8EAB-895C9938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04311-CC45-4F77-BA05-290E2B9D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93499-F329-434F-BA23-14654A67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dt" idx="25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26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27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26BB-D6F0-4564-82AE-9A5CECDA4A3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dt" idx="28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9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30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2E32-D3DD-4001-84DE-B2B0933680D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dt" idx="3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ftr" idx="3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3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00CA-585F-426D-8945-D7E6E1671C2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806F-BA5C-42C1-8C85-73891676EC4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DFAA-5656-4BC2-BF2D-0CC932ECCA3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1AC3-2392-4207-8667-5D9F9D8A5A0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DF61-B56A-454D-9842-3B84A67B475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56A4-C137-489D-A52E-38709AC14D2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DEE2-AC12-4220-9864-62A99C88144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図 1" descr="セミナー縦_bg.jpg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19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0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1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DD83-95DD-49FD-ADD9-07EDE91BD84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22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3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4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25C6-705C-4BB7-B37E-60711A84D68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テキスト ボックス 1"/>
          <p:cNvSpPr/>
          <p:nvPr/>
        </p:nvSpPr>
        <p:spPr>
          <a:xfrm>
            <a:off x="6927840" y="10429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テキスト ボックス 13"/>
          <p:cNvSpPr/>
          <p:nvPr/>
        </p:nvSpPr>
        <p:spPr>
          <a:xfrm>
            <a:off x="1387440" y="11430000"/>
            <a:ext cx="757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テキスト ボックス 15"/>
          <p:cNvSpPr/>
          <p:nvPr/>
        </p:nvSpPr>
        <p:spPr>
          <a:xfrm>
            <a:off x="592200" y="171561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10"/>
          <p:cNvSpPr/>
          <p:nvPr/>
        </p:nvSpPr>
        <p:spPr>
          <a:xfrm>
            <a:off x="2984400" y="144525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/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：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 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20"/>
          <p:cNvSpPr/>
          <p:nvPr/>
        </p:nvSpPr>
        <p:spPr>
          <a:xfrm>
            <a:off x="2984400" y="13684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図 25" descr="セミナー縦_パーツ2.png"/>
          <p:cNvPicPr/>
          <p:nvPr/>
        </p:nvPicPr>
        <p:blipFill>
          <a:blip r:embed="rId1"/>
          <a:stretch/>
        </p:blipFill>
        <p:spPr>
          <a:xfrm>
            <a:off x="1087560" y="2998800"/>
            <a:ext cx="8115120" cy="1527120"/>
          </a:xfrm>
          <a:prstGeom prst="rect">
            <a:avLst/>
          </a:prstGeom>
          <a:ln w="0">
            <a:noFill/>
          </a:ln>
        </p:spPr>
      </p:pic>
      <p:pic>
        <p:nvPicPr>
          <p:cNvPr id="483" name="図 26" descr="セミナー縦_パーツ3.png"/>
          <p:cNvPicPr/>
          <p:nvPr/>
        </p:nvPicPr>
        <p:blipFill>
          <a:blip r:embed="rId2"/>
          <a:stretch/>
        </p:blipFill>
        <p:spPr>
          <a:xfrm>
            <a:off x="1414440" y="13684320"/>
            <a:ext cx="1428840" cy="761760"/>
          </a:xfrm>
          <a:prstGeom prst="rect">
            <a:avLst/>
          </a:prstGeom>
          <a:ln w="0">
            <a:noFill/>
          </a:ln>
        </p:spPr>
      </p:pic>
      <p:pic>
        <p:nvPicPr>
          <p:cNvPr id="484" name="図 27" descr="セミナー縦_パーツ4.png"/>
          <p:cNvPicPr/>
          <p:nvPr/>
        </p:nvPicPr>
        <p:blipFill>
          <a:blip r:embed="rId3"/>
          <a:stretch/>
        </p:blipFill>
        <p:spPr>
          <a:xfrm>
            <a:off x="1414440" y="14476320"/>
            <a:ext cx="1428840" cy="762120"/>
          </a:xfrm>
          <a:prstGeom prst="rect">
            <a:avLst/>
          </a:prstGeom>
          <a:ln w="0">
            <a:noFill/>
          </a:ln>
        </p:spPr>
      </p:pic>
      <p:pic>
        <p:nvPicPr>
          <p:cNvPr id="485" name="図 28" descr="セミナー縦_パーツ5.png"/>
          <p:cNvPicPr/>
          <p:nvPr/>
        </p:nvPicPr>
        <p:blipFill>
          <a:blip r:embed="rId4"/>
          <a:stretch/>
        </p:blipFill>
        <p:spPr>
          <a:xfrm>
            <a:off x="1414440" y="1519560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正方形/長方形 18"/>
          <p:cNvSpPr/>
          <p:nvPr/>
        </p:nvSpPr>
        <p:spPr>
          <a:xfrm>
            <a:off x="1639080" y="1074564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正方形/長方形 29"/>
          <p:cNvSpPr/>
          <p:nvPr/>
        </p:nvSpPr>
        <p:spPr>
          <a:xfrm>
            <a:off x="2066760" y="31878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○○○○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30"/>
          <p:cNvSpPr/>
          <p:nvPr/>
        </p:nvSpPr>
        <p:spPr>
          <a:xfrm>
            <a:off x="2984400" y="15241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図 22" descr="インフォメーション_title.png"/>
          <p:cNvPicPr/>
          <p:nvPr/>
        </p:nvPicPr>
        <p:blipFill>
          <a:blip r:embed="rId5"/>
          <a:stretch/>
        </p:blipFill>
        <p:spPr>
          <a:xfrm>
            <a:off x="2265480" y="351000"/>
            <a:ext cx="5903640" cy="1714320"/>
          </a:xfrm>
          <a:prstGeom prst="rect">
            <a:avLst/>
          </a:prstGeom>
          <a:ln w="0">
            <a:noFill/>
          </a:ln>
        </p:spPr>
      </p:pic>
      <p:pic>
        <p:nvPicPr>
          <p:cNvPr id="490" name="図 23" descr="あたり用写真.jpg"/>
          <p:cNvPicPr/>
          <p:nvPr/>
        </p:nvPicPr>
        <p:blipFill>
          <a:blip r:embed="rId6"/>
          <a:stretch/>
        </p:blipFill>
        <p:spPr>
          <a:xfrm>
            <a:off x="1450800" y="4797360"/>
            <a:ext cx="7388280" cy="5595840"/>
          </a:xfrm>
          <a:prstGeom prst="rect">
            <a:avLst/>
          </a:prstGeom>
          <a:ln w="0">
            <a:noFill/>
          </a:ln>
        </p:spPr>
      </p:pic>
      <p:sp>
        <p:nvSpPr>
          <p:cNvPr id="491" name="テキスト ボックス 24"/>
          <p:cNvSpPr/>
          <p:nvPr/>
        </p:nvSpPr>
        <p:spPr>
          <a:xfrm>
            <a:off x="1400040" y="137556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25"/>
          <p:cNvSpPr/>
          <p:nvPr/>
        </p:nvSpPr>
        <p:spPr>
          <a:xfrm>
            <a:off x="1400040" y="145242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26"/>
          <p:cNvSpPr/>
          <p:nvPr/>
        </p:nvSpPr>
        <p:spPr>
          <a:xfrm>
            <a:off x="1400040" y="152686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3:16Z</dcterms:modified>
  <cp:revision>88</cp:revision>
  <dc:subject/>
  <dc:title>スライド 1</dc:title>
</cp:coreProperties>
</file>